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CD5-39AE-4D07-986C-1D461BB5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08B-DD98-46DC-B60B-8861054A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CBC-0BDC-47D2-8473-3965F023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AB9-AC88-489F-9B63-13B4717C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FB0-3658-4A3F-968C-C958FD3C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125-9035-4479-81BB-7ED67EFF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A0A-4B87-48EA-8043-1EEAF428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CAF-25C8-4F88-9F15-EB674CB3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836-3081-49A1-A658-5BCC15D0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EF8-4491-4A98-94F7-447E34F1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D28-6473-467C-9F39-164E0242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82F-62B3-42C4-B3E8-ADD26B53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6204-37C2-43C2-9510-9A46742B4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6:40:49Z</dcterms:created>
  <dc:creator>Grupo Editorial</dc:creator>
  <dc:description/>
  <dc:language>en-US</dc:language>
  <cp:lastModifiedBy>Grupo Editorial</cp:lastModifiedBy>
  <dcterms:modified xsi:type="dcterms:W3CDTF">2001-11-21T16:42:45Z</dcterms:modified>
  <cp:revision>1</cp:revision>
  <dc:subject/>
  <dc:title>Sin título de diapositiva</dc:title>
</cp:coreProperties>
</file>